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9FF-A8F3-4CD8-B6DF-82DAF2A4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B11-D61F-4308-AEB2-498E0A8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DFA-5CFB-4734-B7AF-1973E5F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272-0116-44F0-AE63-2FBACB72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ACF-E035-4330-99DE-D4B5BD00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DD4F-B8CA-4CB9-863C-C57CF66F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BCE-0D36-414E-934F-6B2A3C1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45C-56C6-46DC-8F8C-442B980F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BEE-F267-4E77-A246-C636126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9696-6B5C-4502-9751-4E9597A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C28-D2DA-436A-BF86-4ACCB1D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433-4B48-4B23-87CF-784BF9D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D1A2-5450-4F88-87AE-A5016B8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6C0-7A66-449C-BD0D-9CD5230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D6A8-1B1A-4B03-9876-679F9605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302-4142-4186-92FC-BB69958B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4438-918B-4814-B1D3-9566D1AB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31CC6-A0B0-40CF-9D76-0B39E0F6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D3DBA-B06B-4370-8ECE-5165A96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64A7F-5B39-48A5-95F9-A55D550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1ED02-6323-42BA-92FD-AA532B6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95B7C-E7D2-404B-BE7E-DB7D93E8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5FE-C713-4F8B-B97C-4CD4DD7B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4CB9E-A83E-4F04-8B4D-95AC562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30D0B-98D4-43ED-8038-8ED14FF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8ACDB-20B9-4381-9842-4EFB261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2FCF9-2DB0-4FFF-944D-6C690CB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2B8E2-AD83-4045-8ED7-070B65AA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B7C8E-0DE2-4BDD-A8EE-BD629F25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8A620-7682-41E9-AF3B-81813A11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EC97-FCF3-49E7-BEE5-829C3C36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72F8-F5B7-4290-BE99-940A299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E155-1BCA-430F-B09C-77B15330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5EF-DFA4-4788-87C7-A563ACA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C737-37A1-431D-8BA2-E1C2948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81A5-0449-4EBA-8A1E-CFF1CE78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F313-B80A-49E3-96BD-E51E198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C117-C9DD-459C-BC53-A9D6269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F5E6-16CB-43A0-A4D8-E2481023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93DA-DB01-4B32-9B25-CC55BA24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64A2-C074-49BE-9CE5-7EBA864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8A1D-0133-447F-9DD2-BBCA8C1F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F4CC-0FEB-4A9F-B0C5-BA4CD5BD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93F-3434-43CE-8F0D-0B784530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806-C69F-4CDE-985C-69774E96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BBC-3CBD-492A-9236-24B108F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C88-6C3C-4A00-AC00-F024B53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FB9-9BE9-4CB7-B779-246BB21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C6C-D226-4D76-A943-EB90D9777DB3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73C-6D41-45D7-94FE-CDBA23D4F52A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515-B45C-4CC4-8651-0736F9970AB7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A0DB-BF67-4186-84B4-CDB1379608B9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 </dc:creator>
  <dc:description/>
  <dc:language>en-US</dc:language>
  <cp:lastModifiedBy>Dawn</cp:lastModifiedBy>
  <dcterms:modified xsi:type="dcterms:W3CDTF">2013-03-05T00:45:32Z</dcterms:modified>
  <cp:revision>35</cp:revision>
  <dc:subject/>
  <dc:title>Chapter 10</dc:title>
</cp:coreProperties>
</file>